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A73-7953-4504-8B89-6A616B9F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866-4637-4D75-A7FC-697BEA4B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9C0-F6BF-4BBE-A1E2-7FB2DC47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DBE-465D-4E5B-A009-E23CE543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2DD-5E74-4919-86C2-075A7BA2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319-3162-488B-AEBA-0EAC093C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535-3211-4672-9829-281DACFF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214-4827-4B2A-BC95-F366F08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579-1074-4204-9125-C420063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680-0CAA-4235-9FC6-D6AED20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F88-E657-469F-8E4A-554357FF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68-F48E-4EB3-8DDB-2288721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FB6-D061-48CB-A9B1-1D518AD77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8:13:50Z</dcterms:created>
  <dc:creator>ivtkaf</dc:creator>
  <dc:description/>
  <dc:language>en-US</dc:language>
  <cp:lastModifiedBy>ivtkaf</cp:lastModifiedBy>
  <dcterms:modified xsi:type="dcterms:W3CDTF">2009-12-11T08:13:54Z</dcterms:modified>
  <cp:revision>1</cp:revision>
  <dc:subject/>
  <dc:title>Слайд 1</dc:title>
</cp:coreProperties>
</file>